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5B3-4F41-4D15-9EDB-FF50B15B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0FB-4DF2-4750-A88B-F288B3B7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7F7-D13E-4658-9E0A-78384A29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E1E-F710-4B4E-A8DA-084C442D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08C-3AC2-4950-A845-D2BEC63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F03-C1AD-4600-BD6B-94D0C5F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5F3-993F-46BA-A7AA-9C35480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1C4-B890-459A-8F19-00E56FDB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3AC-8219-4158-AFF6-E181B35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31D-540B-498F-BD01-182FE4F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17F-DD10-4A26-9218-D55B992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82D-8823-4D7A-974E-B24792B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33167-E0EB-42E3-A578-A62F945E4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it Question:  Should the U.S. welcome all those who wish to co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Amnesty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giveness for breaking a law – it would allow illegal immigrants to apply for citizenship and enter the naturaliz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2040" y="379440"/>
            <a:ext cx="70614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immigrants come to the U.S. In the past and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s have immigrants had on this country throughout its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immigrants been received by those here befor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reason have some people opposed immigration at points in U.S.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llenges has immigration presented to the United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1143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mmigrant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Someone who has moved from a different country to live in the U.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7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an be a non-citizen (alien) or a 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7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an be legally in the country or here illeg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Visa: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Official permission to stay in the country for a limited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ifferent lengths depending on type of visa (example:  5 years for student vi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Naturalization: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The process of becoming a U.S. 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eed to be legally in the country for 5 years before applying for citize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Green Card: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Permission to live permanently in the country (difficult to g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llegal Immigrant:</a:t>
            </a:r>
            <a:r>
              <a:rPr b="0" lang="en-US" sz="48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A person in the country without permission (or with an expired vis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Undocumented Immigrant: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Same as above:  A person in the country without permission (or with an expired vi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15840"/>
            <a:ext cx="907092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mmigration Refo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(What ideas come to mind when you hear 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ve term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ore border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ake naturalization process eas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Punish employers who hire illegal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ass de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3:01:53Z</dcterms:created>
  <dc:creator/>
  <dc:description/>
  <dc:language>en-US</dc:language>
  <cp:lastModifiedBy/>
  <cp:revision>1</cp:revision>
  <dc:subject/>
  <dc:title/>
</cp:coreProperties>
</file>